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C82-5581-4A9B-9BFC-779AE2CF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EF4-49FA-404D-A127-455EA520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7F5-95DD-4A38-B022-A533A80A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220-DA13-46C1-9BE4-346C36FF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180-6408-4FAF-8FD9-FDC4BE24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F73-2388-4B15-9656-375085BB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0CF-986E-40E5-B7B6-00413AAC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0B2-DF5D-40AE-BC6D-33CED38D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22A-8A29-408F-A8D8-A26F78A1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58C-AB56-4E06-9A72-D7FA60E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1AE-678B-4FDA-BC37-9B5D0056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C51-4767-4A03-BFC7-FCEEB167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B7BB-5647-48D5-9017-950AC9FD407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8.2 Barriers to Health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lth care costs in Canada are rising as the population ages and as new techniques becom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sue: What services should and should not be or not be paid for by the health care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se Study Page 260 Questions #1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ealth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ing able to read and comprehend what doctors tell you about diagnosis and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so need to be able to follow complicated medication reg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ealth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igma associated with poor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Questioning doctors adv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linical language and literatur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Inappropr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Facilities for People With Disabi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Knowledge B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chitectural B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titude B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in the top quintile are healthier than those in the second quin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wo Tie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ly the elderly and the very poor have access to public health co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ose who can afford to purchase their own health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me offered by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wo Tie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ould a two tier system create another barrier to health 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 is it a sensible way of reducing public health costs and allowing individuals to purchase medical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01:10Z</dcterms:created>
  <dc:creator>Jason</dc:creator>
  <dc:description/>
  <dc:language>en-US</dc:language>
  <cp:lastModifiedBy>Jason</cp:lastModifiedBy>
  <dcterms:modified xsi:type="dcterms:W3CDTF">2011-05-25T15:09:09Z</dcterms:modified>
  <cp:revision>5</cp:revision>
  <dc:subject/>
  <dc:title>8.2 Barriers to Health Care</dc:title>
</cp:coreProperties>
</file>